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669-C045-4533-9940-04954D9F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080-2EAA-4FF0-A96F-AAC4198A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00A-1ED9-4A1F-8792-01E893D7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DE7-C40D-4A25-9ED5-8007C5C0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B6F49-7953-432C-AB47-DF66354D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F19C3-CA6C-4033-B8D4-48122534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EAECE-C140-42D1-B698-42CEAB93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02634-C36A-46AA-999C-688F324A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14812-F11A-4800-BA93-4A1EE9EF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4D1AC-06B0-4B01-987E-A7C187DC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61A9C-09C2-44A9-A1B0-2E3AC4E5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7EF-8501-46DB-B5A7-F07EF89A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46E07-5AB6-416D-B527-EDD9002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891CB-66A3-4156-A81B-6150E504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837E5-92A2-442D-9A90-822C8C72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0BC96-A7D6-4959-B3B4-61E4E5AB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2760A-4031-4399-A84E-2C0F2637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C9B-D7EB-44FD-9C69-820B74EF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A33-AE97-4C9D-9418-8C9CBBCB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BA4-208D-4C8B-9B51-5D916221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4A5-1721-4D4B-B61E-A4D29661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330-F468-41B6-8A65-5DFDAA35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09A-B000-4A72-B1D8-C27BC879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37C-C3F2-4584-93BE-B1C8F63C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7354-B15B-437C-964F-FB3D0D95D8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515D-AA1D-4685-9B37-E3186FF80A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vocabular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ixed numbers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hole number that has a fraction with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505320"/>
            <a:ext cx="41148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1 ½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ercent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s of a 1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dding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umber to add to a nother number to get a s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20:13:11Z</dcterms:created>
  <dc:creator>nicole.covert</dc:creator>
  <dc:description/>
  <dc:language>en-US</dc:language>
  <cp:lastModifiedBy>nicole.covert</cp:lastModifiedBy>
  <dcterms:modified xsi:type="dcterms:W3CDTF">2010-11-23T20:44:36Z</dcterms:modified>
  <cp:revision>2</cp:revision>
  <dc:subject/>
  <dc:title>vocabulary</dc:title>
</cp:coreProperties>
</file>